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2DE-8DCA-4D1B-AB75-8C36CFB6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65-11E4-41C7-AEBE-5D52EDF4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9E9-DB06-4052-A27C-645389F9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0EF-E0FA-4E36-A94D-F26DE583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D952-A3DE-4520-83FD-AE9612CD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91A6-7741-4161-BF67-7EA5F8F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F42-86E1-4CC7-BD49-867A627F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D7E8-1351-40B1-AEDA-F4CB269E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B38-7972-415A-8BD7-0D86A6FA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7F1A-D48A-4690-A0C3-0BD6E5F7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A2FB-47FF-46CD-8E92-753483C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7D8-0972-4F27-8936-7925333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1052-219C-4637-93D8-827858F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DBF-A4D4-45E6-94B8-6E552146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20B8-01B6-4659-83A7-E4FCC88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17DD-95DB-4AF0-A943-74F461DC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BC49-A037-44F8-BC61-9EEE7F44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EF6-64BC-486C-82A7-D44C135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C1F-AF6B-4DEA-843E-D42B239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F8B-8B53-4930-9E38-6756F40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811-1B16-4EA6-85D6-FF219C1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374-20E3-4713-A8CC-73D4CF8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BEA-C8CB-4666-AFB3-641E434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2FD-6D10-4808-AB1A-A629675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23B1-1D4D-4759-9113-8B9625E7C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F05-3745-42E6-96AC-1C27B476B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Using Technology as a Tool to Preserve Our Native Cultur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oliw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chnolog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) The application of science, especially to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ustrial or commercial  objec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b) Electronic or digital products and syste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ed as a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http://www.webopedia.c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eservatio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ety of way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o Recording (CD’s, tapes, etc…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s (DVD’s, movie’s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ware (downloadable, create your own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eras (digital, photostory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ebsi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est way to preserve our culture, due to the easy access and variety of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sands of informative sites are available with the touch of your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fun and interesting sites that are geared toward teaching children about native cul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ulture.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civilization.ca/tresors/ethno/index_e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native-languages.org/home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greatdreams.com/native.ht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udio Recording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cessity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ytell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ide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ftw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nderstand and speak our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intertribal.net/NAT/NATribe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Native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ing portals of our heri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eloquent-systems.com/products/heritage_suite.s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me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ngest running technology for preserving native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tos have been around since the early 180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importance in visual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sing Technology as a Tool to Preserve Our Native Cultur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Preserve the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our Native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5:37:46Z</dcterms:created>
  <dc:creator>Paula Pelletier</dc:creator>
  <dc:description/>
  <dc:language>en-US</dc:language>
  <cp:lastModifiedBy>Paula Pelletier</cp:lastModifiedBy>
  <dcterms:modified xsi:type="dcterms:W3CDTF">2007-03-01T20:24:43Z</dcterms:modified>
  <cp:revision>6</cp:revision>
  <dc:subject/>
  <dc:title>Using Technology as a Tool to Preserve Our Native Culture</dc:title>
</cp:coreProperties>
</file>